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0738-18DA-490A-9D41-EA10BD9FE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FC37-B12F-4B81-843F-A5992334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068D-A84D-4FCF-963C-5EF18234D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398D-BAE2-443C-81F1-9D66856A2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5B25-3E4A-4347-BE44-E45A71F2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A54F-3BD0-4878-9B61-05136CDE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51BA-1C4E-40DB-9A03-15D8AA2A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DAD9-4131-4ED2-8E99-C393C506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4D9C-2A80-4897-B270-100C1046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31A5-2A14-4650-AC0C-31F5CCAF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B3E0-0F3B-46AF-AA6A-B24BEF70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01D6-17C5-4698-AEF1-B585C1B8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A02D-629B-48F8-967B-B0E6BBA4E9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Guide 10-5     Salts in S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33520" y="10666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Remember, a salt consists of an anion from an acid an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ion from a base.  It forms as a result of neutr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533520" y="2209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sometimes salts can be acidic or basic, not just neut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533520" y="26668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t Hydro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685800" y="30481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cations or anions of a dissociated salt remove hydrogen ions from or donate hydrogen ions to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1066680" y="380988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solutions containing hydrolyzing salts can be acidic or basic depending on the direction  of the hydrogen ion transf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1371600" y="48769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these hyrdolizing salts usually come from a strong acid and weak base or vice ver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salts that make acidic solutions have + ions which give off protons to 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380880" y="15238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salts that produce basic solutions have – ions that attract protons from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380880" y="22860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ing if a salt solution is acidic or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762120" y="2743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ong acid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trong base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neutral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762120" y="32004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ong ac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eak base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idic sol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762120" y="3657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eak ac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+ 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trong Base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Basic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380880" y="40384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457200" y="43434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a solution in which the pH remains relatively constant when small amounts of acid or base are ad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buffers are solutions of a weak acid and one of its salts, or a solution of a weak base and one of its sal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990720" y="16002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why buffers?  To resist drastic change in 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609480" y="19810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now buffers can only resist change so much.  The key to buffers is the resistanc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mall amoun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added acids and bas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1066680" y="30481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oo much acid or base is added, the buffer’s ability to “buff” is 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1371600" y="38098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the amount of acid or base that can be added to a buffer solution before a significant change in pH occurs = buffer capa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1523880" y="502920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:  need buffers to maintain human blood pH within a very narrow range (pH 7.35 – 7.45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02:04:25Z</dcterms:created>
  <dc:creator>John Pakledinaz</dc:creator>
  <dc:description/>
  <dc:language>en-US</dc:language>
  <cp:lastModifiedBy>Farwell Area Schools</cp:lastModifiedBy>
  <dcterms:modified xsi:type="dcterms:W3CDTF">2009-02-17T14:45:28Z</dcterms:modified>
  <cp:revision>9</cp:revision>
  <dc:subject/>
  <dc:title>Note Guide 10-5     Salts in Solution</dc:title>
</cp:coreProperties>
</file>